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CA3-26B1-465A-A8C5-A9B2DBCD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A95-5CB2-4595-974F-7C741FE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047CC-742A-492D-AE26-AFE6BBA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0A5E-A1D4-4DBE-BE0B-C209447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0128C-6263-4D25-BF25-773AA6F4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F8E8D-FE81-4856-9AD9-F3D32A9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881E-479C-4215-BCD5-11345FB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0AFD-2B18-40F8-BDAD-319113A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E3A75-4B7F-4B74-AE86-BF29FB5B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20B7C-8A79-4300-90BC-0607193B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B060-691E-4628-8FBF-EB86A4FD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0CF1-5954-4A94-A123-8F47C8BB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24D-E6C2-4C5B-8E8D-21B2E2DB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E1239-CDFA-4C42-A819-40A3F6D2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9DD3F-3C95-4969-A576-55F0D97A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ED887-EE3E-47D4-ADF1-CD5AE2D3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6B8CA-AD74-4F82-8192-DA65F7B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97FE1-B9E7-4AF1-9C58-40B27D7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C734F-D40B-41D7-98B4-D7A75DA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832E5-4FCA-494B-9BD9-7C87618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780B7-4C72-42A3-AF44-CAA2D90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9D964-F73F-417B-AC8B-172EF33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8F026-6DE0-4842-9617-9A84B10E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22E-4E9E-4243-BA85-ABC042DE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96207-F58F-40C2-8A6D-A9D492D2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3B664-26BF-4B7E-A0EF-D42060D8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EBCE-EF0B-42E0-BEC0-DEA8D71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8E13-8250-483E-A7AB-B2E2657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FEFD-16CA-4C3B-8DCA-83939E2B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3F66-867E-4E0C-9654-9B7BBE2F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9C10-C196-42C9-94D9-E0E0F81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5DC37-4461-45F9-B67D-016E864A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18A48-4956-4FA1-92C6-A52DF3C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A2E25-BF7C-49EA-8AEA-48ED851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CA97-3423-4A3C-90D5-6CA8CF11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5AB1B-0361-4D5D-95F3-8747D463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581D-D96A-4D49-8E26-6B1CB107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F556D-E2C0-42BA-94DE-DA594C61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09970-E20D-448F-8E62-EC02C38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95024-EE2C-4337-90BA-164D7890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A2CB0-CC85-4D4F-A33B-A07A5E75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E0653-3A1A-4A34-9107-C47BADF7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9E5FF-A360-4875-84EC-AFF6BD7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DDF69-78F9-4573-B278-6EE9E69B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FCC8E-5BF6-44CF-9955-D4DC4E5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92A-ABAB-4C82-B52D-B06D9618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F50DE-DC53-4222-B6F9-2D0EFA8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92B4E-90A1-4215-9321-6CFC6E2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18D43-8DE9-462F-A652-532CA83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A0BE2-89FB-41C4-A4EB-115FFFE4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7B579-6BEC-4EB6-BED1-D433A48E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BCCA4-9A86-471F-9B3B-09AF8DB6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5A54A-74ED-4D33-806F-9A40195B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AEF46-32F6-441F-AEA1-8D772695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A391D-218F-4D2C-83DD-FAA544C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5A965-748F-425C-A145-41E2BD8C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A63-3852-423B-B70C-CF90E00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94858-C2CE-4456-8342-AD32D6C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767E4-CD51-4D90-B4E6-CFC2B4E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112B2-8DC3-4C6E-A91F-695EE58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08C7F-031E-47A8-BACB-1165DFF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D3807-4E33-4847-B7C8-995FFF9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D4A23-D3BD-4306-B4D5-267B4A47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F39A8-80AD-4D3B-9186-42564990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A27CB-55B8-4193-9991-B2DAA80D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C4862-49A2-4A47-8379-F1A250BA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59433-0F51-4579-B5E7-C43B55BC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3C91-092E-4A5C-9A56-7430EA8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6F00E-832D-4878-92A8-8A19A12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582B2-F6B3-4220-9DF3-16DBB6BD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59CBE-E333-4841-888B-77DAEA84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46146-1DCF-4C24-B007-AB3AA14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46E3D-A552-4B34-9F9C-8E53DBA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16E7C-EF4F-4C31-9A8C-B540505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43219-D1D6-46A6-A268-43EBA232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A1A6B-970D-4073-BE7C-91DA5C3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C5850-B8E1-44E3-9192-9023F02E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8CFBE-987B-44A0-8FF4-B00F9491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0B42-8C2A-4907-8484-1D26D14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53DAE-0F28-440D-A990-DDF8CB7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D110B-3D91-4524-BEB6-546B0374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84D81-4E16-4449-880D-0947399C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20EC4-765B-44CF-8B27-E72AC818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920AF-70A8-4D9A-AF7E-764492C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309E4-417B-4000-9C02-B80427C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EEE1C-1ACD-4886-A78B-A28F573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05DD6-3CFC-4B0C-BF4F-014B9972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744BE-4568-4E73-8DDF-CEFD9DA5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286EF-791D-4712-B35D-8683533B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4297-1AF1-46C8-8229-C687F91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0C35C-E6D8-4C73-85F2-DFB0B080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7881B-55AE-4C91-9821-E2FBC56B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3B3A6-103A-48A4-B1D3-A2C66FA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A5527-76E0-49F1-BE8D-6E8F38A9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1F606-7594-4E9F-8B02-BAC8FF3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485EA-4D22-49F7-8B28-33CBD3C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B3556-A9F3-49C0-9EDA-726814C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1346E-41AB-428A-92BC-CB10F4F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7A7F7-B4F5-444E-BC4A-A194044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D4EC-38FE-4790-B977-CA39CEB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E6CA-2D64-4408-B0C4-8BD57F4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1D619-D881-428D-8692-E85B6DD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F3EC5-E655-43F0-AF78-2DBD101F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33804-1C54-42EE-ACF3-364BC6E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4D3B0-A9B9-476B-9A52-F73642B3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F3578-94A8-491E-AB24-983D514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86A16-1030-4E32-BDB7-0F4E04B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0FBF7-E232-48E9-A3A4-023CA5A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52C42-BA2E-4C75-A7CF-EEB6FA9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64C35-AD10-4F88-8E03-6D41AB8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5AAB0-8A18-4B04-B2FA-F72C04C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41E-E6AF-4C87-9310-BC83B69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504C-C9E9-4EA7-B52E-E36FC59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89730-F223-46C7-A545-4340F78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6891B-F896-4F28-B0CC-DD5B8048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8F98F-3201-4157-99C5-80E50F01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6C171-DC16-41CE-98DF-62E9CF2F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E9F86-04A7-4488-B3EC-5EB8C788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3BC98-8535-4F36-AD4B-6B3275F4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01265-566D-4A07-9350-3CB00823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09905-BCCB-48FF-89FD-7E3EEE5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E49BE-8D16-401F-A9D3-364EBF2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28937-6556-4C1A-9057-39591CF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957B-0BF2-49CF-9076-D5B5DC6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F399A-5220-4C4B-B9A0-C5810B4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7910F-6101-4428-8621-3D4AD77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FDF12-7C3E-476B-B0DE-3788BB3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C1B23-D9FB-4358-800E-3CB4A7B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5F6C2-369F-4D05-A4BF-4EDE8790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ACE7E-8052-4D6D-9FD3-4CA71711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8AB31-ECCA-4E5C-95C0-C6C8EF79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D436A-194E-4064-A03E-F19D035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921E2-806A-48D6-8D7D-25671BB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9EDA7-DFC8-4BCA-AEF4-45A6E08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B43-3240-4843-8C75-8808BBE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02542-E187-43CD-A14D-D60192EB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502A5-89FD-4726-AF59-4E3C4AE6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B9034-4A19-4146-ACDF-DEF2C17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01F31-EBD0-4EA9-862B-37A9BEB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E76F2-636A-44C2-8D20-3F2D023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1D346-6F0C-4462-A855-D3B7A55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4CEEB-8B85-4701-B30E-7E79664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106C9-D910-4FDC-B7E5-C3ED56BF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5D81E-9366-4680-8AE6-1541445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7634F-7C10-43DA-B85A-DF264192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F3DE-E917-48DC-96ED-9415B35D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DFED4-44D3-481A-ADE4-851B8BB6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67B67-4B76-42EB-A98D-1B3E4DA2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50FC7-D59D-4412-AD0B-53A75B1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83A05-433C-4B59-AE51-E92829FA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5E153-AFC2-4CB3-8607-29068376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D3F9B-D7CB-466A-A048-A2B8429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3F6FD-5657-4F1D-B2D4-FEB89427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4249E-F8CC-4DD0-A4AB-DC22158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99D65-0E85-4FFF-B659-381F4D2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055D9-7746-4E96-9783-BF3FF4A0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3C55-617A-459E-AAA8-4BDAD5B7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D519B-B09D-40FF-B667-DD68B277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C9532-6465-4666-A5B1-855CF982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056EE-0339-4FEB-9093-6D0F2675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983B0-BEDC-4DBF-A420-104F08C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F615A-0BCB-4A68-88BA-DA595B4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5E099-01EC-49FA-96A7-624FBAA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C05A4-AE82-4739-B1E8-08B1E17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CD723-4D1F-4F82-8A95-6F7E6A5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C3365-0998-4B00-B791-595C3AE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754EF-FBC3-4DA3-A74C-AA00404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C3C1-1EB1-49C4-898E-1FD16CC0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5E083-F1ED-4E33-B919-4812361D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42017-06F7-4C8A-A066-28B4A587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33E9C-B115-40E1-87EF-BF85728B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A4A3-0501-499B-88C0-C40376E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9B4F-9067-487C-BA06-DC09CEB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502A-BB64-4DCE-9EB8-711C4DE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E9D5-39BF-492D-A570-F0FF163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220-25B9-4612-91A0-48AE3E43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4DD1-0456-4274-94D9-25A995FB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7157-A0B5-4C6D-97FD-778DD8C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55B6-6A21-4A51-9613-8844BF2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3F53-876C-4057-8BF1-7C1251D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F6A6-2839-4DE4-A8AF-2EB2FB9F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02AD-D18A-43E5-B08C-536FC22D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E9B1-04EE-4D77-B7CC-6AAA25D3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92B3-F6D8-4F5F-A6F2-F5ED9A74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CB3E-0659-4F58-8D15-13A432F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4CBE-3AC8-4C61-AEC1-4407824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B15-C87F-45AC-BD7B-48592EA5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282B-A908-4288-8EF4-22BCC66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D61D-6DE6-40B0-980D-6F1E1D1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B940-A46D-40B1-ACB1-A3F45AE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2DB6-ADF2-4F53-83F5-924ACC2A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10C2-9D94-4D88-9ADA-BF41599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A068-DF57-486D-BC81-7D651A6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17F6-ACC9-4262-8483-D3CEA54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A07E-A4DB-408A-B459-73C4C5E3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1530-796A-4427-A24F-EF005D9B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3CCB7-C2BE-472C-83E9-F5ED185C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117-E8BD-4119-9807-8E4EF9B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79F1-69A1-4D30-913F-40BE64D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4A31-B8B5-4AFF-8855-3550CAE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393A-917C-416A-AEBE-212DB01F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1218-B356-4F83-9718-FA59E4E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6152-C56A-47F8-9816-0FE4E67C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A9F8-9617-4C13-9C4A-016AA9F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46D4-E57C-45BD-8F3B-A215891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9002-364F-459F-A673-990FCF96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DC29-B9A1-445E-8C1A-76D223D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62D8-1636-435B-9E8E-C11BC6F0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117-F6A2-4AD1-AEF5-F280597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4E0E-FDBA-44F8-B720-26A2A9D2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C8E8-C995-4182-B3E5-77FED192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CA9DA-BA94-4DEC-ABC5-8509A2F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A1BA-F62D-4D20-989E-D0693C7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1625-E117-4C03-81BC-26B2632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5C900-34D8-4E4B-82E5-95E0240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699D1-4A15-4D57-8C63-1B0676B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7303-7996-41C8-BEF4-53FE20F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6F256-F6E4-40CF-B38D-03D5DC1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A9BA-5FFD-4C1C-B804-596DDE9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222-DBB3-4C86-B4E9-6674571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EBA47-2A66-4FD4-80E8-FE62C81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8590-A584-435C-8D6C-E51961CA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F622C-40A9-4FB6-B2DB-488EDF96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B344-DD88-41D6-9872-F49A4DCD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91B8-F1EE-4440-9F66-194456CB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76E5-6483-4A56-ABB0-0EE5BB9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6DDC-FE65-4B81-BDA9-E1010909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00F3-361E-4B4D-94EA-D10C3AD7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D8C7-8E2A-47BE-8328-178856D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BC20-87FA-42E8-BCCE-84B2442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123-DD53-49DE-9393-12D754D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1A8CB-4D98-40C1-9C63-EA4085F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3DD2-7788-4D11-A9C3-B025661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95F97-DF09-42BE-9F4B-519E88B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134E-F939-40C0-9621-315D4880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541C-22A3-4461-9798-1A756628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57D81-1FA8-46EF-A35F-3131376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5DFE-238A-4DB7-9A54-257FAEA3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5352-65DC-41CF-B6CB-39503D8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6B30-0DD0-4CA6-89CD-1A6FD8E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675C9-C760-417C-8466-59117F9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048-10C5-4161-8335-8DCC695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E3E18-E146-4E08-92CA-8F5D589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F893-C0FB-46CF-80DA-980DB7C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8DF4A-C40F-4E1B-AB49-D939FE7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ED057-AC99-4AFF-B41E-D5593BC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D5AF-1D74-49A0-912B-2B6AF2F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A42A-0E39-4BF0-B68A-8F0A25EC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202D-61B5-44BB-9AEA-A75FFFD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A591-2D58-44FC-B6BB-BBE9FB72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18913-7674-4254-B16F-527ED03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BCB16-6DD3-46B1-BD0F-FE99733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0F28-E0CE-436E-B72F-73E4B011FD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CE1-94E6-4278-BB85-F9170C085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9229-9A53-44B5-91E6-C0940855A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4A0-5B75-4767-906C-3198A8141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B5A-D2F4-494D-80B7-A39CAD42D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C22-8E9C-4DCB-899B-BBDA43DA9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FA5-BBEB-4347-BE79-064BDCAF4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EB7B-4E49-4944-8874-63318C633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7CCD-8066-4098-BFC7-B895B8285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E520-68FE-499C-84D4-E2B0B7D24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4CB-A98F-4DDC-9F07-E5600DEF0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34E-96AF-49A1-83DF-364527FFA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C4A3-577C-41B7-BB58-D066195CA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868-B42A-4B39-B886-1E71F3229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0D9-B726-4046-BE56-871636CEF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1D4-CE89-466D-991D-7D6025A66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64A9-8C13-435D-9F0F-C4CEA1A6B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08CE-86A3-47D0-A371-0F6F2764A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9A1-9FC3-4108-A960-96D198228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D857-D11D-495C-9901-8420DF302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E988-542F-4308-AEF2-5C9C04F0B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8522-4C42-4CD9-A4FC-B248AB290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3F3-2088-47BA-BC29-0046200C5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780-BB78-43B1-976B-CBD376757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A53-B357-4AA6-8821-87AE012471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60DA-C6DC-483C-80D4-5808FE40E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2E1-CF74-4CC9-A985-15D345007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8AF8-118F-4200-872B-39AE82969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29E-A2ED-4952-96F5-1FF193F34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766-442A-47BC-A5EA-F2CA74144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EF92-F26B-4442-8889-E135A696A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15E-86FB-4C08-AAD2-897957962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1DA-4D53-41ED-90F7-AF2BE8FA4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2ED-2D93-4041-A011-23DF95A09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1BF-2916-49A7-9504-D2F7AA92A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76A0-1FEA-4712-8D1F-A2FED94F5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0E7-07FD-4296-8233-BCA8ED9167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C41-E219-42DB-8892-ABCC06D5F0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6A4-2A1B-4227-964D-2FF04AAF5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9358-07D3-428F-9288-82C3866F5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1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1780920" cy="6667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2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829400" cy="84780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28683" descr=""/>
          <p:cNvPicPr/>
          <p:nvPr/>
        </p:nvPicPr>
        <p:blipFill>
          <a:blip r:embed="rId3"/>
          <a:stretch/>
        </p:blipFill>
        <p:spPr>
          <a:xfrm>
            <a:off x="3059280" y="3716280"/>
            <a:ext cx="36478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15713" descr=""/>
          <p:cNvPicPr/>
          <p:nvPr/>
        </p:nvPicPr>
        <p:blipFill>
          <a:blip r:embed="rId1"/>
          <a:stretch/>
        </p:blipFill>
        <p:spPr>
          <a:xfrm>
            <a:off x="533520" y="2266920"/>
            <a:ext cx="8076960" cy="2324160"/>
          </a:xfrm>
          <a:prstGeom prst="rect">
            <a:avLst/>
          </a:prstGeom>
          <a:ln w="0">
            <a:noFill/>
          </a:ln>
        </p:spPr>
      </p:pic>
      <p:sp>
        <p:nvSpPr>
          <p:cNvPr id="1071" name="矩形 115714"/>
          <p:cNvSpPr/>
          <p:nvPr/>
        </p:nvSpPr>
        <p:spPr>
          <a:xfrm>
            <a:off x="1728720" y="4038480"/>
            <a:ext cx="55072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14689" descr=""/>
          <p:cNvPicPr/>
          <p:nvPr/>
        </p:nvPicPr>
        <p:blipFill>
          <a:blip r:embed="rId1"/>
          <a:stretch/>
        </p:blipFill>
        <p:spPr>
          <a:xfrm>
            <a:off x="404640" y="852480"/>
            <a:ext cx="8334720" cy="5153040"/>
          </a:xfrm>
          <a:prstGeom prst="rect">
            <a:avLst/>
          </a:prstGeom>
          <a:ln w="0">
            <a:noFill/>
          </a:ln>
        </p:spPr>
      </p:pic>
      <p:sp>
        <p:nvSpPr>
          <p:cNvPr id="1073" name="矩形 114690"/>
          <p:cNvSpPr/>
          <p:nvPr/>
        </p:nvSpPr>
        <p:spPr>
          <a:xfrm>
            <a:off x="7824960" y="32259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113665" descr=""/>
          <p:cNvPicPr/>
          <p:nvPr/>
        </p:nvPicPr>
        <p:blipFill>
          <a:blip r:embed="rId1"/>
          <a:stretch/>
        </p:blipFill>
        <p:spPr>
          <a:xfrm>
            <a:off x="447840" y="1733400"/>
            <a:ext cx="8248320" cy="3391200"/>
          </a:xfrm>
          <a:prstGeom prst="rect">
            <a:avLst/>
          </a:prstGeom>
          <a:ln w="0">
            <a:noFill/>
          </a:ln>
        </p:spPr>
      </p:pic>
      <p:sp>
        <p:nvSpPr>
          <p:cNvPr id="1075" name="矩形 113666"/>
          <p:cNvSpPr/>
          <p:nvPr/>
        </p:nvSpPr>
        <p:spPr>
          <a:xfrm>
            <a:off x="7885080" y="184464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12641" descr=""/>
          <p:cNvPicPr/>
          <p:nvPr/>
        </p:nvPicPr>
        <p:blipFill>
          <a:blip r:embed="rId1"/>
          <a:stretch/>
        </p:blipFill>
        <p:spPr>
          <a:xfrm>
            <a:off x="461880" y="1714680"/>
            <a:ext cx="8220240" cy="3429000"/>
          </a:xfrm>
          <a:prstGeom prst="rect">
            <a:avLst/>
          </a:prstGeom>
          <a:ln w="0">
            <a:noFill/>
          </a:ln>
        </p:spPr>
      </p:pic>
      <p:sp>
        <p:nvSpPr>
          <p:cNvPr id="1077" name="矩形 112642"/>
          <p:cNvSpPr/>
          <p:nvPr/>
        </p:nvSpPr>
        <p:spPr>
          <a:xfrm>
            <a:off x="7885080" y="350028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111617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63000" cy="113328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11161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71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10593" descr=""/>
          <p:cNvPicPr/>
          <p:nvPr/>
        </p:nvPicPr>
        <p:blipFill>
          <a:blip r:embed="rId1"/>
          <a:stretch/>
        </p:blipFill>
        <p:spPr>
          <a:xfrm>
            <a:off x="566640" y="1123920"/>
            <a:ext cx="8010720" cy="4610160"/>
          </a:xfrm>
          <a:prstGeom prst="rect">
            <a:avLst/>
          </a:prstGeom>
          <a:ln w="0">
            <a:noFill/>
          </a:ln>
        </p:spPr>
      </p:pic>
      <p:sp>
        <p:nvSpPr>
          <p:cNvPr id="1081" name="矩形 110594"/>
          <p:cNvSpPr/>
          <p:nvPr/>
        </p:nvSpPr>
        <p:spPr>
          <a:xfrm>
            <a:off x="7122960" y="1704960"/>
            <a:ext cx="1336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10595"/>
          <p:cNvSpPr/>
          <p:nvPr/>
        </p:nvSpPr>
        <p:spPr>
          <a:xfrm>
            <a:off x="1560600" y="2200320"/>
            <a:ext cx="6899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0596"/>
          <p:cNvSpPr/>
          <p:nvPr/>
        </p:nvSpPr>
        <p:spPr>
          <a:xfrm>
            <a:off x="1281240" y="2682720"/>
            <a:ext cx="52354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110597"/>
          <p:cNvSpPr/>
          <p:nvPr/>
        </p:nvSpPr>
        <p:spPr>
          <a:xfrm>
            <a:off x="6183360" y="3699000"/>
            <a:ext cx="2205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110598"/>
          <p:cNvSpPr/>
          <p:nvPr/>
        </p:nvSpPr>
        <p:spPr>
          <a:xfrm>
            <a:off x="1459080" y="4206960"/>
            <a:ext cx="38336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110599"/>
          <p:cNvSpPr/>
          <p:nvPr/>
        </p:nvSpPr>
        <p:spPr>
          <a:xfrm>
            <a:off x="4024440" y="5210280"/>
            <a:ext cx="38336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109569" descr=""/>
          <p:cNvPicPr/>
          <p:nvPr/>
        </p:nvPicPr>
        <p:blipFill>
          <a:blip r:embed="rId1"/>
          <a:stretch/>
        </p:blipFill>
        <p:spPr>
          <a:xfrm>
            <a:off x="447840" y="1428840"/>
            <a:ext cx="8248320" cy="4000320"/>
          </a:xfrm>
          <a:prstGeom prst="rect">
            <a:avLst/>
          </a:prstGeom>
          <a:ln w="0">
            <a:noFill/>
          </a:ln>
        </p:spPr>
      </p:pic>
      <p:sp>
        <p:nvSpPr>
          <p:cNvPr id="1088" name="矩形 109570"/>
          <p:cNvSpPr/>
          <p:nvPr/>
        </p:nvSpPr>
        <p:spPr>
          <a:xfrm>
            <a:off x="7199280" y="1920960"/>
            <a:ext cx="1333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09571"/>
          <p:cNvSpPr/>
          <p:nvPr/>
        </p:nvSpPr>
        <p:spPr>
          <a:xfrm>
            <a:off x="1268280" y="2441520"/>
            <a:ext cx="2079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09572"/>
          <p:cNvSpPr/>
          <p:nvPr/>
        </p:nvSpPr>
        <p:spPr>
          <a:xfrm>
            <a:off x="1420920" y="2949480"/>
            <a:ext cx="581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09573"/>
          <p:cNvSpPr/>
          <p:nvPr/>
        </p:nvSpPr>
        <p:spPr>
          <a:xfrm>
            <a:off x="1611360" y="3432240"/>
            <a:ext cx="1089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109574"/>
          <p:cNvSpPr/>
          <p:nvPr/>
        </p:nvSpPr>
        <p:spPr>
          <a:xfrm>
            <a:off x="3529080" y="3927600"/>
            <a:ext cx="442764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109575"/>
          <p:cNvSpPr/>
          <p:nvPr/>
        </p:nvSpPr>
        <p:spPr>
          <a:xfrm>
            <a:off x="5535720" y="4448160"/>
            <a:ext cx="3213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109576"/>
          <p:cNvSpPr/>
          <p:nvPr/>
        </p:nvSpPr>
        <p:spPr>
          <a:xfrm>
            <a:off x="1077840" y="4956120"/>
            <a:ext cx="3213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108545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77120" cy="5105520"/>
          </a:xfrm>
          <a:prstGeom prst="rect">
            <a:avLst/>
          </a:prstGeom>
          <a:ln w="0">
            <a:noFill/>
          </a:ln>
        </p:spPr>
      </p:pic>
      <p:sp>
        <p:nvSpPr>
          <p:cNvPr id="1096" name="矩形 108546"/>
          <p:cNvSpPr/>
          <p:nvPr/>
        </p:nvSpPr>
        <p:spPr>
          <a:xfrm>
            <a:off x="4545000" y="2682720"/>
            <a:ext cx="36273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108547"/>
          <p:cNvSpPr/>
          <p:nvPr/>
        </p:nvSpPr>
        <p:spPr>
          <a:xfrm>
            <a:off x="4443480" y="5222880"/>
            <a:ext cx="25765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107521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753320" cy="147636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07522" descr=""/>
          <p:cNvPicPr/>
          <p:nvPr/>
        </p:nvPicPr>
        <p:blipFill>
          <a:blip r:embed="rId2"/>
          <a:stretch/>
        </p:blipFill>
        <p:spPr>
          <a:xfrm>
            <a:off x="941400" y="2738520"/>
            <a:ext cx="4762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106497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543400" cy="517212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0649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5200560" cy="4124160"/>
          </a:xfrm>
          <a:prstGeom prst="rect">
            <a:avLst/>
          </a:prstGeom>
          <a:ln w="0">
            <a:noFill/>
          </a:ln>
        </p:spPr>
      </p:pic>
      <p:sp>
        <p:nvSpPr>
          <p:cNvPr id="1102" name="矩形 106499"/>
          <p:cNvSpPr/>
          <p:nvPr/>
        </p:nvSpPr>
        <p:spPr>
          <a:xfrm>
            <a:off x="3795840" y="251784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106500"/>
          <p:cNvSpPr/>
          <p:nvPr/>
        </p:nvSpPr>
        <p:spPr>
          <a:xfrm>
            <a:off x="3579840" y="4041720"/>
            <a:ext cx="19288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106501"/>
          <p:cNvSpPr/>
          <p:nvPr/>
        </p:nvSpPr>
        <p:spPr>
          <a:xfrm>
            <a:off x="493560" y="4537080"/>
            <a:ext cx="19288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23905" descr=""/>
          <p:cNvPicPr/>
          <p:nvPr/>
        </p:nvPicPr>
        <p:blipFill>
          <a:blip r:embed="rId1"/>
          <a:stretch/>
        </p:blipFill>
        <p:spPr>
          <a:xfrm>
            <a:off x="318960" y="1719360"/>
            <a:ext cx="8506080" cy="34192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123906"/>
          <p:cNvSpPr/>
          <p:nvPr/>
        </p:nvSpPr>
        <p:spPr>
          <a:xfrm>
            <a:off x="4572000" y="270828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23907"/>
          <p:cNvSpPr/>
          <p:nvPr/>
        </p:nvSpPr>
        <p:spPr>
          <a:xfrm>
            <a:off x="6172200" y="269568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123908"/>
          <p:cNvSpPr/>
          <p:nvPr/>
        </p:nvSpPr>
        <p:spPr>
          <a:xfrm>
            <a:off x="2120760" y="302580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23909"/>
          <p:cNvSpPr/>
          <p:nvPr/>
        </p:nvSpPr>
        <p:spPr>
          <a:xfrm>
            <a:off x="3009960" y="300024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23910"/>
          <p:cNvSpPr/>
          <p:nvPr/>
        </p:nvSpPr>
        <p:spPr>
          <a:xfrm>
            <a:off x="6705720" y="30258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23911"/>
          <p:cNvSpPr/>
          <p:nvPr/>
        </p:nvSpPr>
        <p:spPr>
          <a:xfrm>
            <a:off x="4280040" y="3330720"/>
            <a:ext cx="112536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23912"/>
          <p:cNvSpPr/>
          <p:nvPr/>
        </p:nvSpPr>
        <p:spPr>
          <a:xfrm>
            <a:off x="4089240" y="3660840"/>
            <a:ext cx="622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23913"/>
          <p:cNvSpPr/>
          <p:nvPr/>
        </p:nvSpPr>
        <p:spPr>
          <a:xfrm>
            <a:off x="4127400" y="3940200"/>
            <a:ext cx="62244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3914"/>
          <p:cNvSpPr/>
          <p:nvPr/>
        </p:nvSpPr>
        <p:spPr>
          <a:xfrm>
            <a:off x="6908760" y="3965400"/>
            <a:ext cx="1771560" cy="2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3915"/>
          <p:cNvSpPr/>
          <p:nvPr/>
        </p:nvSpPr>
        <p:spPr>
          <a:xfrm>
            <a:off x="977760" y="4245120"/>
            <a:ext cx="7858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23916"/>
          <p:cNvSpPr/>
          <p:nvPr/>
        </p:nvSpPr>
        <p:spPr>
          <a:xfrm>
            <a:off x="3263760" y="4524480"/>
            <a:ext cx="267660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23917"/>
          <p:cNvSpPr/>
          <p:nvPr/>
        </p:nvSpPr>
        <p:spPr>
          <a:xfrm>
            <a:off x="1155600" y="4842000"/>
            <a:ext cx="413712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22881" descr=""/>
          <p:cNvPicPr/>
          <p:nvPr/>
        </p:nvPicPr>
        <p:blipFill>
          <a:blip r:embed="rId1"/>
          <a:stretch/>
        </p:blipFill>
        <p:spPr>
          <a:xfrm>
            <a:off x="324000" y="2838600"/>
            <a:ext cx="8496000" cy="11808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122882"/>
          <p:cNvSpPr/>
          <p:nvPr/>
        </p:nvSpPr>
        <p:spPr>
          <a:xfrm>
            <a:off x="4000680" y="310212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22883"/>
          <p:cNvSpPr/>
          <p:nvPr/>
        </p:nvSpPr>
        <p:spPr>
          <a:xfrm>
            <a:off x="5880240" y="310212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22884"/>
          <p:cNvSpPr/>
          <p:nvPr/>
        </p:nvSpPr>
        <p:spPr>
          <a:xfrm>
            <a:off x="7251840" y="3102120"/>
            <a:ext cx="11365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22885"/>
          <p:cNvSpPr/>
          <p:nvPr/>
        </p:nvSpPr>
        <p:spPr>
          <a:xfrm>
            <a:off x="1535040" y="3416400"/>
            <a:ext cx="109224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22886"/>
          <p:cNvSpPr/>
          <p:nvPr/>
        </p:nvSpPr>
        <p:spPr>
          <a:xfrm>
            <a:off x="4419720" y="37116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22887"/>
          <p:cNvSpPr/>
          <p:nvPr/>
        </p:nvSpPr>
        <p:spPr>
          <a:xfrm>
            <a:off x="6070680" y="37116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21857" descr=""/>
          <p:cNvPicPr/>
          <p:nvPr/>
        </p:nvPicPr>
        <p:blipFill>
          <a:blip r:embed="rId1"/>
          <a:stretch/>
        </p:blipFill>
        <p:spPr>
          <a:xfrm>
            <a:off x="357120" y="2100240"/>
            <a:ext cx="8429760" cy="2657520"/>
          </a:xfrm>
          <a:prstGeom prst="rect">
            <a:avLst/>
          </a:prstGeom>
          <a:ln w="0">
            <a:noFill/>
          </a:ln>
        </p:spPr>
      </p:pic>
      <p:sp>
        <p:nvSpPr>
          <p:cNvPr id="1046" name="矩形 121858"/>
          <p:cNvSpPr/>
          <p:nvPr/>
        </p:nvSpPr>
        <p:spPr>
          <a:xfrm>
            <a:off x="6477120" y="35337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20833" descr=""/>
          <p:cNvPicPr/>
          <p:nvPr/>
        </p:nvPicPr>
        <p:blipFill>
          <a:blip r:embed="rId1"/>
          <a:stretch/>
        </p:blipFill>
        <p:spPr>
          <a:xfrm>
            <a:off x="333360" y="2052720"/>
            <a:ext cx="8477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19809" descr=""/>
          <p:cNvPicPr/>
          <p:nvPr/>
        </p:nvPicPr>
        <p:blipFill>
          <a:blip r:embed="rId1"/>
          <a:stretch/>
        </p:blipFill>
        <p:spPr>
          <a:xfrm>
            <a:off x="371520" y="1328760"/>
            <a:ext cx="8400960" cy="4200480"/>
          </a:xfrm>
          <a:prstGeom prst="rect">
            <a:avLst/>
          </a:prstGeom>
          <a:ln w="0">
            <a:noFill/>
          </a:ln>
        </p:spPr>
      </p:pic>
      <p:sp>
        <p:nvSpPr>
          <p:cNvPr id="1049" name="矩形 119810"/>
          <p:cNvSpPr/>
          <p:nvPr/>
        </p:nvSpPr>
        <p:spPr>
          <a:xfrm>
            <a:off x="2222640" y="218772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9811"/>
          <p:cNvSpPr/>
          <p:nvPr/>
        </p:nvSpPr>
        <p:spPr>
          <a:xfrm>
            <a:off x="2195640" y="2800440"/>
            <a:ext cx="57600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19812"/>
          <p:cNvSpPr/>
          <p:nvPr/>
        </p:nvSpPr>
        <p:spPr>
          <a:xfrm>
            <a:off x="3543480" y="2809800"/>
            <a:ext cx="5047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9813"/>
          <p:cNvSpPr/>
          <p:nvPr/>
        </p:nvSpPr>
        <p:spPr>
          <a:xfrm>
            <a:off x="2133720" y="3432240"/>
            <a:ext cx="70956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9814"/>
          <p:cNvSpPr/>
          <p:nvPr/>
        </p:nvSpPr>
        <p:spPr>
          <a:xfrm>
            <a:off x="3619440" y="32925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19815"/>
          <p:cNvSpPr/>
          <p:nvPr/>
        </p:nvSpPr>
        <p:spPr>
          <a:xfrm>
            <a:off x="4762440" y="479124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19816"/>
          <p:cNvSpPr/>
          <p:nvPr/>
        </p:nvSpPr>
        <p:spPr>
          <a:xfrm>
            <a:off x="6588000" y="3141720"/>
            <a:ext cx="20163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19817"/>
          <p:cNvSpPr/>
          <p:nvPr/>
        </p:nvSpPr>
        <p:spPr>
          <a:xfrm>
            <a:off x="6443640" y="3490920"/>
            <a:ext cx="8650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19818"/>
          <p:cNvSpPr/>
          <p:nvPr/>
        </p:nvSpPr>
        <p:spPr>
          <a:xfrm>
            <a:off x="7192800" y="4699080"/>
            <a:ext cx="1482840" cy="24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9819"/>
          <p:cNvSpPr/>
          <p:nvPr/>
        </p:nvSpPr>
        <p:spPr>
          <a:xfrm>
            <a:off x="6367320" y="5029200"/>
            <a:ext cx="148284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18785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20040" cy="1000440"/>
          </a:xfrm>
          <a:prstGeom prst="rect">
            <a:avLst/>
          </a:prstGeom>
          <a:ln w="0">
            <a:noFill/>
          </a:ln>
        </p:spPr>
      </p:pic>
      <p:sp>
        <p:nvSpPr>
          <p:cNvPr id="1060" name="矩形 118786"/>
          <p:cNvSpPr/>
          <p:nvPr/>
        </p:nvSpPr>
        <p:spPr>
          <a:xfrm>
            <a:off x="6948360" y="2205000"/>
            <a:ext cx="165600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18787"/>
          <p:cNvSpPr/>
          <p:nvPr/>
        </p:nvSpPr>
        <p:spPr>
          <a:xfrm>
            <a:off x="495360" y="2538360"/>
            <a:ext cx="1011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18788"/>
          <p:cNvSpPr/>
          <p:nvPr/>
        </p:nvSpPr>
        <p:spPr>
          <a:xfrm>
            <a:off x="3924360" y="2577960"/>
            <a:ext cx="44211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17761" descr=""/>
          <p:cNvPicPr/>
          <p:nvPr/>
        </p:nvPicPr>
        <p:blipFill>
          <a:blip r:embed="rId1"/>
          <a:stretch/>
        </p:blipFill>
        <p:spPr>
          <a:xfrm>
            <a:off x="395280" y="2252520"/>
            <a:ext cx="8353440" cy="2352960"/>
          </a:xfrm>
          <a:prstGeom prst="rect">
            <a:avLst/>
          </a:prstGeom>
          <a:ln w="0">
            <a:noFill/>
          </a:ln>
        </p:spPr>
      </p:pic>
      <p:sp>
        <p:nvSpPr>
          <p:cNvPr id="1064" name="矩形 117762"/>
          <p:cNvSpPr/>
          <p:nvPr/>
        </p:nvSpPr>
        <p:spPr>
          <a:xfrm>
            <a:off x="7812000" y="2997360"/>
            <a:ext cx="5050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1673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77120" cy="5629320"/>
          </a:xfrm>
          <a:prstGeom prst="rect">
            <a:avLst/>
          </a:prstGeom>
          <a:ln w="0">
            <a:noFill/>
          </a:ln>
        </p:spPr>
      </p:pic>
      <p:sp>
        <p:nvSpPr>
          <p:cNvPr id="1066" name="矩形 116738"/>
          <p:cNvSpPr/>
          <p:nvPr/>
        </p:nvSpPr>
        <p:spPr>
          <a:xfrm>
            <a:off x="5729400" y="3733920"/>
            <a:ext cx="29462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6739"/>
          <p:cNvSpPr/>
          <p:nvPr/>
        </p:nvSpPr>
        <p:spPr>
          <a:xfrm>
            <a:off x="1436760" y="4317840"/>
            <a:ext cx="42148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16740"/>
          <p:cNvSpPr/>
          <p:nvPr/>
        </p:nvSpPr>
        <p:spPr>
          <a:xfrm>
            <a:off x="7367760" y="5435640"/>
            <a:ext cx="12366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16741"/>
          <p:cNvSpPr/>
          <p:nvPr/>
        </p:nvSpPr>
        <p:spPr>
          <a:xfrm>
            <a:off x="1258920" y="6019920"/>
            <a:ext cx="919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18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